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8332-74B8-47DC-9C83-1EC40D120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C82-7D41-486A-9BC6-621B1FE0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078-18F3-4947-BD5A-03ABBB34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A06-E180-41DC-9D55-181DBFE9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483-3A77-44A8-809A-B290CD73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C03-5C29-40F6-B594-448582CE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9D6-2213-4069-B641-B4EE268E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5F8-070D-41AE-970D-49598D9C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9A8-933B-41FF-AA56-FBD8E7F8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953-D24B-4E21-A87E-76C79A15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5D3-2198-4AC1-A705-23210F58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58D-9701-4FFC-908E-782E2C6F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A58-1BC0-4488-9AD0-1B7E4411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3FEC-844B-4C0E-B72C-A8F65AEF8C7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lectrophilic addition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0" y="4339800"/>
            <a:ext cx="680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omic Sans MS"/>
              </a:rPr>
              <a:t>Ethene and bromine liquid at room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chemanim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37447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6831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819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476360" y="74595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4859280" y="40831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lari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4859280" y="3068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lectrop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835280" y="6858000"/>
            <a:ext cx="504720" cy="38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763640" y="8253360"/>
            <a:ext cx="360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1" lang="el-GR" sz="36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16000" y="508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476360" y="43448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6372360" y="2203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637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96000" y="337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6084720" y="40752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596360" y="1483920"/>
            <a:ext cx="57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263700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172360" y="294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8244000" y="1052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788000" y="292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 flipV="1">
            <a:off x="5219640" y="241884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5292720" y="155592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4643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5"/>
          <p:cNvGrpSpPr/>
          <p:nvPr/>
        </p:nvGrpSpPr>
        <p:grpSpPr>
          <a:xfrm>
            <a:off x="2050920" y="2421000"/>
            <a:ext cx="217440" cy="576360"/>
            <a:chOff x="2050920" y="2421000"/>
            <a:chExt cx="217440" cy="576360"/>
          </a:xfrm>
        </p:grpSpPr>
        <p:sp>
          <p:nvSpPr>
            <p:cNvPr id="101" name="Oval 41"/>
            <p:cNvSpPr/>
            <p:nvPr/>
          </p:nvSpPr>
          <p:spPr>
            <a:xfrm>
              <a:off x="2050920" y="242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3"/>
            <p:cNvSpPr/>
            <p:nvPr/>
          </p:nvSpPr>
          <p:spPr>
            <a:xfrm>
              <a:off x="2052720" y="270828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1258920" y="4508640"/>
            <a:ext cx="504720" cy="288720"/>
            <a:chOff x="1258920" y="4508640"/>
            <a:chExt cx="504720" cy="288720"/>
          </a:xfrm>
        </p:grpSpPr>
        <p:sp>
          <p:nvSpPr>
            <p:cNvPr id="104" name="Oval 42"/>
            <p:cNvSpPr/>
            <p:nvPr/>
          </p:nvSpPr>
          <p:spPr>
            <a:xfrm>
              <a:off x="1258920" y="4581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1547640" y="4508640"/>
              <a:ext cx="216000" cy="28872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Line 47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83672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763640" y="515628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2"/>
          <p:cNvSpPr/>
          <p:nvPr/>
        </p:nvSpPr>
        <p:spPr>
          <a:xfrm rot="2139000">
            <a:off x="6227640" y="2636640"/>
            <a:ext cx="711360" cy="934920"/>
          </a:xfrm>
          <a:custGeom>
            <a:avLst/>
            <a:gdLst>
              <a:gd name="textAreaLeft" fmla="*/ 95040 w 711360"/>
              <a:gd name="textAreaRight" fmla="*/ 616320 w 711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4"/>
          <p:cNvSpPr/>
          <p:nvPr/>
        </p:nvSpPr>
        <p:spPr>
          <a:xfrm>
            <a:off x="6156360" y="4292640"/>
            <a:ext cx="647640" cy="576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93236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urly ar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46836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arb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67052E-007 C 0.02969 -8.67052E-007 0.05955 -8.67051999999674E-007 0.04584 0.01757 C 0.03212 0.03515 -0.05989 0.09017 -0.08107 0.10497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0324 C 0.07899 0.0037 0.12986 0.01063 0.12517 0.02196 C 0.12048 0.03329 0.06007 0.04878 -0.00018 0.06428 E"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87280" y="76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9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843280" y="1484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059280" y="2492280"/>
            <a:ext cx="86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9564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56000" y="85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68360" y="2491920"/>
            <a:ext cx="718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476360" y="1413000"/>
            <a:ext cx="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61928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05080" y="575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2050920" y="582300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3"/>
          <p:cNvGrpSpPr/>
          <p:nvPr/>
        </p:nvGrpSpPr>
        <p:grpSpPr>
          <a:xfrm>
            <a:off x="1546200" y="5587920"/>
            <a:ext cx="504720" cy="289080"/>
            <a:chOff x="1546200" y="5587920"/>
            <a:chExt cx="504720" cy="289080"/>
          </a:xfrm>
        </p:grpSpPr>
        <p:sp>
          <p:nvSpPr>
            <p:cNvPr id="146" name="Oval 44"/>
            <p:cNvSpPr/>
            <p:nvPr/>
          </p:nvSpPr>
          <p:spPr>
            <a:xfrm>
              <a:off x="1546200" y="5659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1835280" y="558792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Line 54"/>
          <p:cNvSpPr/>
          <p:nvPr/>
        </p:nvSpPr>
        <p:spPr>
          <a:xfrm>
            <a:off x="284328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3132000" y="3429000"/>
            <a:ext cx="648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0"/>
          <p:cNvSpPr/>
          <p:nvPr/>
        </p:nvSpPr>
        <p:spPr>
          <a:xfrm>
            <a:off x="6084720" y="4653000"/>
            <a:ext cx="144720" cy="288720"/>
          </a:xfrm>
          <a:custGeom>
            <a:avLst/>
            <a:gdLst>
              <a:gd name="textAreaLeft" fmla="*/ 59760 w 144720"/>
              <a:gd name="textAreaRight" fmla="*/ 84960 w 144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 flipV="1" rot="805800">
            <a:off x="4792680" y="2993040"/>
            <a:ext cx="4322880" cy="1963800"/>
          </a:xfrm>
          <a:custGeom>
            <a:avLst/>
            <a:gdLst>
              <a:gd name="textAreaLeft" fmla="*/ 632880 w 4322880"/>
              <a:gd name="textAreaRight" fmla="*/ 3690000 w 4322880"/>
              <a:gd name="textAreaTop" fmla="*/ 287280 h 1963800"/>
              <a:gd name="textAreaBottom" fmla="*/ 1676520 h 1963800"/>
            </a:gdLst>
            <a:ahLst/>
            <a:rect l="textAreaLeft" t="textAreaTop" r="textAreaRight" b="textAreaBottom"/>
            <a:pathLst>
              <a:path w="21600" h="21600">
                <a:moveTo>
                  <a:pt x="15150" y="20685"/>
                </a:moveTo>
                <a:cubicBezTo>
                  <a:pt x="19069" y="18960"/>
                  <a:pt x="21600" y="15082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36" y="-1"/>
                  <a:pt x="9274" y="80"/>
                  <a:pt x="8528" y="241"/>
                </a:cubicBezTo>
                <a:cubicBezTo>
                  <a:pt x="9274" y="80"/>
                  <a:pt x="1003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082"/>
                  <a:pt x="19069" y="18960"/>
                  <a:pt x="15150" y="20685"/>
                </a:cubicBezTo>
                <a:lnTo>
                  <a:pt x="16237" y="23156"/>
                </a:lnTo>
                <a:lnTo>
                  <a:pt x="12678" y="21773"/>
                </a:lnTo>
                <a:lnTo>
                  <a:pt x="14062" y="18213"/>
                </a:lnTo>
                <a:lnTo>
                  <a:pt x="15150" y="20685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6372360" y="4941720"/>
            <a:ext cx="50472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7667640" y="2492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269892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om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1216 -0.03006 0.05434 -0.13295 0.07309 -0.18058 C 0.09184 -0.22821 0.10452 -0.26359 0.11285 -0.28555 E">
                                      <p:cBhvr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2948E-006 C 0.01302 -0.03237 0.0592 -0.14682 0.07795 -0.19445 C 0.0967 -0.24208 0.10556 -0.26659 0.11285 -0.28555 E">
                                      <p:cBhvr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7 C 0.01389 -0.03445 0.0651 -0.15861 0.08385 -0.20624 C 0.1026 -0.25387 0.10677 -0.26913 0.11284 -0.28555 E">
                                      <p:cBhvr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85 -0.28555 C 0.14792 -0.30104 0.18316 -0.31653 0.18264 -0.32786 C 0.18212 -0.33919 0.14584 -0.34635 0.10973 -0.35329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093080" y="330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7451640" y="2637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284720" y="4365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1,2-dibromoeth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96"/>
          <p:cNvSpPr/>
          <p:nvPr/>
        </p:nvSpPr>
        <p:spPr>
          <a:xfrm>
            <a:off x="1692360" y="270828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Mechanis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02"/>
          <p:cNvGrpSpPr/>
          <p:nvPr/>
        </p:nvGrpSpPr>
        <p:grpSpPr>
          <a:xfrm>
            <a:off x="324000" y="3284640"/>
            <a:ext cx="8820000" cy="3424320"/>
            <a:chOff x="324000" y="3284640"/>
            <a:chExt cx="8820000" cy="3424320"/>
          </a:xfrm>
        </p:grpSpPr>
        <p:sp>
          <p:nvSpPr>
            <p:cNvPr id="174" name="Text Box 26"/>
            <p:cNvSpPr/>
            <p:nvPr/>
          </p:nvSpPr>
          <p:spPr>
            <a:xfrm>
              <a:off x="1365120" y="6005520"/>
              <a:ext cx="97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665440" y="3284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1365120" y="328464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428840" y="42512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5440" y="426420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1886040" y="4476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1428840" y="511164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1690560" y="4700520"/>
              <a:ext cx="1800" cy="44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H="1" flipV="1">
              <a:off x="2924280" y="3897360"/>
              <a:ext cx="1440" cy="40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3119400" y="4476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30"/>
            <p:cNvSpPr/>
            <p:nvPr/>
          </p:nvSpPr>
          <p:spPr>
            <a:xfrm>
              <a:off x="383544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2"/>
            <p:cNvSpPr/>
            <p:nvPr/>
          </p:nvSpPr>
          <p:spPr>
            <a:xfrm>
              <a:off x="32400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 flipV="1">
              <a:off x="779400" y="4476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1623960" y="3807000"/>
              <a:ext cx="180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1494000" y="5950080"/>
              <a:ext cx="1299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7"/>
            <p:cNvSpPr/>
            <p:nvPr/>
          </p:nvSpPr>
          <p:spPr>
            <a:xfrm>
              <a:off x="1690560" y="5905440"/>
              <a:ext cx="130320" cy="179280"/>
            </a:xfrm>
            <a:custGeom>
              <a:avLst/>
              <a:gdLst>
                <a:gd name="textAreaLeft" fmla="*/ 53640 w 130320"/>
                <a:gd name="textAreaRight" fmla="*/ 76680 w 130320"/>
                <a:gd name="textAreaTop" fmla="*/ 73800 h 179280"/>
                <a:gd name="textAreaBottom" fmla="*/ 1054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1979640" y="6021360"/>
              <a:ext cx="4557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3119400" y="4565520"/>
              <a:ext cx="32544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8"/>
            <p:cNvSpPr/>
            <p:nvPr/>
          </p:nvSpPr>
          <p:spPr>
            <a:xfrm flipV="1" rot="805800">
              <a:off x="523800" y="4876200"/>
              <a:ext cx="3903840" cy="1217880"/>
            </a:xfrm>
            <a:custGeom>
              <a:avLst/>
              <a:gdLst>
                <a:gd name="textAreaLeft" fmla="*/ 571320 w 3903840"/>
                <a:gd name="textAreaRight" fmla="*/ 3332520 w 3903840"/>
                <a:gd name="textAreaTop" fmla="*/ 177840 h 1217880"/>
                <a:gd name="textAreaBottom" fmla="*/ 10400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50" y="20685"/>
                  </a:moveTo>
                  <a:cubicBezTo>
                    <a:pt x="19069" y="18960"/>
                    <a:pt x="21600" y="15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10036" y="-1"/>
                    <a:pt x="9274" y="80"/>
                    <a:pt x="8528" y="241"/>
                  </a:cubicBezTo>
                  <a:cubicBezTo>
                    <a:pt x="9274" y="80"/>
                    <a:pt x="10036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5082"/>
                    <a:pt x="19069" y="18960"/>
                    <a:pt x="15150" y="20685"/>
                  </a:cubicBezTo>
                  <a:lnTo>
                    <a:pt x="16237" y="23156"/>
                  </a:lnTo>
                  <a:lnTo>
                    <a:pt x="12678" y="21773"/>
                  </a:lnTo>
                  <a:lnTo>
                    <a:pt x="14062" y="18213"/>
                  </a:lnTo>
                  <a:lnTo>
                    <a:pt x="15150" y="2068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95"/>
            <p:cNvGrpSpPr/>
            <p:nvPr/>
          </p:nvGrpSpPr>
          <p:grpSpPr>
            <a:xfrm>
              <a:off x="5148360" y="3537000"/>
              <a:ext cx="3995640" cy="2701440"/>
              <a:chOff x="5148360" y="3537000"/>
              <a:chExt cx="3995640" cy="2701440"/>
            </a:xfrm>
          </p:grpSpPr>
          <p:sp>
            <p:nvSpPr>
              <p:cNvPr id="194" name="Text Box 80"/>
              <p:cNvSpPr/>
              <p:nvPr/>
            </p:nvSpPr>
            <p:spPr>
              <a:xfrm>
                <a:off x="6243840" y="45014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81"/>
              <p:cNvSpPr/>
              <p:nvPr/>
            </p:nvSpPr>
            <p:spPr>
              <a:xfrm>
                <a:off x="7468560" y="45158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2"/>
              <p:cNvSpPr/>
              <p:nvPr/>
            </p:nvSpPr>
            <p:spPr>
              <a:xfrm>
                <a:off x="6695640" y="4771080"/>
                <a:ext cx="77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83"/>
              <p:cNvSpPr/>
              <p:nvPr/>
            </p:nvSpPr>
            <p:spPr>
              <a:xfrm>
                <a:off x="6243840" y="5535000"/>
                <a:ext cx="903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84"/>
              <p:cNvSpPr/>
              <p:nvPr/>
            </p:nvSpPr>
            <p:spPr>
              <a:xfrm>
                <a:off x="7404840" y="5482080"/>
                <a:ext cx="96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5"/>
              <p:cNvSpPr/>
              <p:nvPr/>
            </p:nvSpPr>
            <p:spPr>
              <a:xfrm>
                <a:off x="6502320" y="5038560"/>
                <a:ext cx="0" cy="536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6"/>
              <p:cNvSpPr/>
              <p:nvPr/>
            </p:nvSpPr>
            <p:spPr>
              <a:xfrm flipV="1">
                <a:off x="7725600" y="4073400"/>
                <a:ext cx="0" cy="482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7"/>
              <p:cNvSpPr/>
              <p:nvPr/>
            </p:nvSpPr>
            <p:spPr>
              <a:xfrm>
                <a:off x="7918920" y="4771080"/>
                <a:ext cx="644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88"/>
              <p:cNvSpPr/>
              <p:nvPr/>
            </p:nvSpPr>
            <p:spPr>
              <a:xfrm>
                <a:off x="862812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89"/>
              <p:cNvSpPr/>
              <p:nvPr/>
            </p:nvSpPr>
            <p:spPr>
              <a:xfrm>
                <a:off x="7468560" y="353700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90"/>
              <p:cNvSpPr/>
              <p:nvPr/>
            </p:nvSpPr>
            <p:spPr>
              <a:xfrm>
                <a:off x="514836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91"/>
              <p:cNvSpPr/>
              <p:nvPr/>
            </p:nvSpPr>
            <p:spPr>
              <a:xfrm flipV="1">
                <a:off x="5599800" y="4770720"/>
                <a:ext cx="6436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92"/>
              <p:cNvSpPr/>
              <p:nvPr/>
            </p:nvSpPr>
            <p:spPr>
              <a:xfrm>
                <a:off x="6437160" y="3965760"/>
                <a:ext cx="1080" cy="58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93"/>
              <p:cNvSpPr/>
              <p:nvPr/>
            </p:nvSpPr>
            <p:spPr>
              <a:xfrm>
                <a:off x="6179760" y="35510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94"/>
              <p:cNvSpPr/>
              <p:nvPr/>
            </p:nvSpPr>
            <p:spPr>
              <a:xfrm>
                <a:off x="7725600" y="4985280"/>
                <a:ext cx="0" cy="58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Line 97"/>
            <p:cNvSpPr/>
            <p:nvPr/>
          </p:nvSpPr>
          <p:spPr>
            <a:xfrm>
              <a:off x="4211640" y="494172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395280" y="0"/>
            <a:ext cx="8642520" cy="3430800"/>
            <a:chOff x="395280" y="0"/>
            <a:chExt cx="8642520" cy="3430800"/>
          </a:xfrm>
        </p:grpSpPr>
        <p:sp>
          <p:nvSpPr>
            <p:cNvPr id="211" name="Text Box 64"/>
            <p:cNvSpPr/>
            <p:nvPr/>
          </p:nvSpPr>
          <p:spPr>
            <a:xfrm>
              <a:off x="6046920" y="2727360"/>
              <a:ext cx="97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1508040" y="555480"/>
              <a:ext cx="5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2828880" y="565200"/>
              <a:ext cx="55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2063880" y="68256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063880" y="85392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1508040" y="1376280"/>
              <a:ext cx="118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1438200" y="2295360"/>
              <a:ext cx="11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787400" y="1922400"/>
              <a:ext cx="0" cy="42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246480" y="255600"/>
              <a:ext cx="5554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3246480" y="93996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801960" y="1120680"/>
              <a:ext cx="55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3871800" y="0"/>
              <a:ext cx="55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534960" y="110952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V="1">
              <a:off x="950760" y="811080"/>
              <a:ext cx="5572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022400" y="29844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395280" y="8568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 rot="2617200">
              <a:off x="1953720" y="763560"/>
              <a:ext cx="338400" cy="936720"/>
            </a:xfrm>
            <a:custGeom>
              <a:avLst/>
              <a:gdLst>
                <a:gd name="textAreaLeft" fmla="*/ 45360 w 338400"/>
                <a:gd name="textAreaRight" fmla="*/ 293040 w 338400"/>
                <a:gd name="textAreaTop" fmla="*/ 163800 h 936720"/>
                <a:gd name="textAreaBottom" fmla="*/ 6793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0"/>
            <p:cNvSpPr/>
            <p:nvPr/>
          </p:nvSpPr>
          <p:spPr>
            <a:xfrm>
              <a:off x="1855800" y="2081160"/>
              <a:ext cx="625320" cy="339840"/>
            </a:xfrm>
            <a:custGeom>
              <a:avLst/>
              <a:gdLst>
                <a:gd name="textAreaLeft" fmla="*/ 83520 w 625320"/>
                <a:gd name="textAreaRight" fmla="*/ 541800 w 625320"/>
                <a:gd name="textAreaTop" fmla="*/ 59400 h 339840"/>
                <a:gd name="textAreaBottom" fmla="*/ 24660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60"/>
            <p:cNvSpPr/>
            <p:nvPr/>
          </p:nvSpPr>
          <p:spPr>
            <a:xfrm>
              <a:off x="6110280" y="917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7346880" y="92880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2"/>
            <p:cNvSpPr/>
            <p:nvPr/>
          </p:nvSpPr>
          <p:spPr>
            <a:xfrm>
              <a:off x="6567480" y="1128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3"/>
            <p:cNvSpPr/>
            <p:nvPr/>
          </p:nvSpPr>
          <p:spPr>
            <a:xfrm>
              <a:off x="6110280" y="172728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72360" y="1339920"/>
              <a:ext cx="144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H="1" flipV="1">
              <a:off x="7605720" y="583920"/>
              <a:ext cx="1440" cy="37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7800840" y="1128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68"/>
            <p:cNvSpPr/>
            <p:nvPr/>
          </p:nvSpPr>
          <p:spPr>
            <a:xfrm>
              <a:off x="8516880" y="9208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7346880" y="64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5005440" y="9208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5460840" y="1128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6305400" y="498600"/>
              <a:ext cx="1800" cy="46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73"/>
            <p:cNvSpPr/>
            <p:nvPr/>
          </p:nvSpPr>
          <p:spPr>
            <a:xfrm>
              <a:off x="6046920" y="6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4"/>
            <p:cNvSpPr/>
            <p:nvPr/>
          </p:nvSpPr>
          <p:spPr>
            <a:xfrm>
              <a:off x="6175440" y="2766960"/>
              <a:ext cx="12996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5"/>
            <p:cNvSpPr/>
            <p:nvPr/>
          </p:nvSpPr>
          <p:spPr>
            <a:xfrm>
              <a:off x="6372360" y="2708280"/>
              <a:ext cx="129960" cy="168120"/>
            </a:xfrm>
            <a:custGeom>
              <a:avLst/>
              <a:gdLst>
                <a:gd name="textAreaLeft" fmla="*/ 53640 w 129960"/>
                <a:gd name="textAreaRight" fmla="*/ 76320 w 12996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6661080" y="2584440"/>
              <a:ext cx="455760" cy="33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7800840" y="1212840"/>
              <a:ext cx="32544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>
              <a:off x="4211640" y="12636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4:36:22Z</dcterms:created>
  <dc:creator>Administrator</dc:creator>
  <dc:description/>
  <dc:language>en-US</dc:language>
  <cp:lastModifiedBy>RomaK</cp:lastModifiedBy>
  <dcterms:modified xsi:type="dcterms:W3CDTF">2015-09-01T16:22:56Z</dcterms:modified>
  <cp:revision>14</cp:revision>
  <dc:subject/>
  <dc:title>Electrophilic addition</dc:title>
</cp:coreProperties>
</file>